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8D84-7383-4341-9BC5-2E2395785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93F3-F714-4711-9B27-363EB28B05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FF6-5C91-438E-A77F-4B128D1A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621-6140-4D00-8681-EF75C95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D1A-3A22-4BF3-AA5E-2C0BE67C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F09-125D-456C-AAFB-7BC262D2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DB0-8F2B-4DD5-8B33-2082F66B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B31-E0A9-422E-A81E-0FF03E31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C98-FD72-49DA-80AE-3ACBEAA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7F0-1738-43B9-9135-BABFA0FE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8F9-CE54-4DB8-BF3B-C1B1B940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49D-2DD7-48FC-A539-E55FE58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558-D30A-482E-811C-BCAB89AD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763-F306-429E-A0E0-5A598E0A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32F9-3261-48C3-869E-4833B8188B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9T17:52:49Z</dcterms:modified>
  <cp:revision>36</cp:revision>
  <dc:subject/>
  <dc:title>What Goes Up Must Come Down</dc:title>
</cp:coreProperties>
</file>